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4D5-DD4A-43DC-8F7E-110599AB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DBF-64BA-4E15-B3B6-5FA28414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8FBEE-AD76-460F-84EA-501E58B5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4FF35-D3FC-4C07-9224-43124867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178C8-D541-412A-93C0-E55111BD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6102E-3122-4970-BD8B-9877BF78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4DB3A-0736-4E1D-83C2-7CE131B9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B3A58-3311-4A4C-9C8D-561D3DAC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7A886-9BFF-4EE9-BEF0-D3D06EBD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FCA89-B4A1-42AA-98F4-EA3C42FA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A66EC-1FE0-4F32-94E7-77B712C3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E7E78-4038-45FF-B95B-FE27B77E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EAC-652F-46FD-AA19-9C1DCEE4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A3F4C-FC28-4872-9C99-415595F1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50705-E613-46E9-A1DB-7119224F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05164-EA75-40A3-852A-5F781338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FDF54-3C24-4BE7-87AB-E8E33B29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4E8AD-F2D4-4B49-885A-60A4B7E0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0CD94-6C16-4D13-BAB4-6C6C4CA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84E81-3BAA-48B9-9BDB-47CA0836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00F32-537E-48C8-8998-9B22B733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F13C8-210B-41E3-8AE6-1DF1010D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48668-CB67-480E-8DDE-629AD0DE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7B9-E13E-40F0-897F-263F6F59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A2288-9909-4EEA-A6ED-F53FB056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7C547-4C0A-4ECD-A88D-0A582A76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3BFE2-BC51-4E95-9CCD-FD81B754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E1BD0-25F4-439F-9C39-C6F16019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47F79-09E6-44ED-A0EA-78661EA3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84AAC-65B5-4833-9C37-CAF88DF9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D1FD2-6472-497F-B81A-55CBC71D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42593-7D6C-4296-B2D5-25508F84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5672A-8B1C-450F-B90C-2B32D4A8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8710E-8C85-4A07-83A0-673893C8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048A-47CA-4FC0-8EDD-583A81A8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85918-933E-46FA-843B-9135BB8E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BDCE4-3C21-47A4-A6C1-2365599C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93EDB-891D-4A35-8E5E-D8B8B6F2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6D4A7-AEF3-4292-B912-7F6123D1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CBD20-367B-46E5-935A-F6F95406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78A8D-F439-4182-A086-B5472EB1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45DC1-0C79-4083-A0F2-9F47FAD7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AF0B4-1564-4B25-BED2-8084C1B2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F047F-E19D-4A3B-8000-540CF8A9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7F745-EF58-4D1A-BE7A-676341E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261A-B8B2-48ED-B438-06FF5967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0514C-21BF-42F6-94E4-07BF5AD4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3434D-138E-4FD1-80D9-6C2D5078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96FA4-2C38-45EE-A49D-E411CC0E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5F1D0-64A0-40F2-B966-41BD202A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FF94B-5AAB-4BC1-BF22-CB4FD933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6548D-7B6A-4074-B853-2EB03CAC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FF1C7-AF6C-47DC-81F3-BEA6254D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8A899-64BA-4876-9406-7AAD1AAD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6DB95-C4CD-4182-8F12-29F19510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D97F8-A771-4BA1-AFD4-0CB18D1B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3507-A4B1-4CD4-89C6-73623B9F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85C24-0DF5-48BB-8905-F0723AED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0EFDB-281E-40C8-84D7-C2ADC428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EE210-AD32-4C10-B4D1-E5ECD280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52351-AE56-4812-B358-549BD9ED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DFB67-20EE-4487-9D02-6D66A2E0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CAA9B-0110-48B5-BB32-12A9FF58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32B28-F06A-443C-88F1-CB282137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3C3D5-7BA5-40F9-BDFB-FC3F3771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754D2-40FE-4001-AA34-27C4C4CD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A9FF3-B915-43CF-802C-486FB436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44CB-34F4-43CE-B755-564E64AF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30963-73DD-429B-B7EA-42B10188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FC7F5-CFA1-4905-9213-84422936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7F164-5DA3-474D-A63F-76531355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EBA0C-7AA3-4C32-BC2F-28903DC0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93956-6A24-4889-93D8-DC1A3E0E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04FD2-5CDE-4DDD-8006-9BE6711F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30813-710F-4D22-AE5B-5FB4AFFE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C5D0C-FEA5-4DAC-BA2B-7A32ABAB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A88F9-14B0-40AC-8031-243924D9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10D82-5031-42C3-91CC-798914F7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E5C7-0D54-4F12-8DCF-6B25063C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3C922-A27A-44AD-B1AA-80880EF2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99FB6-F023-4AE1-AE72-FA2347D1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1A2BB-B41C-4131-8043-95F8E1A8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0EAA47-0642-4C09-9768-D2D332B6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F8CA17-3B89-4665-AC6B-E33A3D3C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D87853-B358-422D-BDC1-9A1B6DAC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0E8F2-F9D8-4418-B8AF-F9D3C366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1A7CE-FBC9-4C0A-8C5B-976079B7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55E5F-27DF-4928-9DA4-22055037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CEA8F-723B-4448-88C4-C1B5B755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66AF-3B63-44CD-B00F-ABB63DE5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49DCD-D955-4465-A5F7-3B05FCEE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655F5-78B6-4191-9612-C08A5078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3360F-D117-476D-8E0F-C70233ED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527740-7F1F-4256-8EBC-036BFF2B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3D377-F826-40B0-91C0-B86FDBC6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1E5A0-AF99-49C5-9163-B2A4F328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4ED3A-1FD7-48E6-A441-DA79F782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6CFE7-CD37-4ED3-BF96-7229952C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836943-ED7A-4D9B-800B-65E78790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CEE16F-9421-4433-8B01-7541B226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51BF-4D2B-49B8-9DE4-8790D0B7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E041E-3097-4983-A239-38DF917F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216885-70C1-419E-889B-4E32EE1D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C641D-1585-488E-AA81-077EF11F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F9136-6CA4-46A8-85FE-DBAE0DBA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060CE-C285-468D-8395-7840E9EF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63DA0-FA41-4702-9B6D-A630870E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E50C4D-F199-4843-A74C-3C413E16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B08B6-D1AF-4962-A7A1-86263CB5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ECE9A-0507-49DC-B5D5-5B0931EC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DE611F-F2E5-4768-A938-E61AD4D5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8FC-140A-43EF-94F7-F5B4569A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1AD3-AE3A-4E92-8C8A-B6201C2F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959934-44E7-49E9-9F05-653D03FF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15B2E-BCD5-4DDE-8593-D78017AD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E180B0-0552-4D1D-B122-9BBFCF07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F843C-1621-4496-92C3-351FAECD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22E8E-AA53-479C-B0B9-123C967F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687F74-0A09-4854-B672-E3AD6277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82422-9478-4318-A344-B613D807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70A3CA-94D2-45A9-B1D1-9E69D70E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45F2B-54A5-4218-822E-62C7B77D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AB56B-F29B-4BCB-9F6A-3C3CD7FE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1C75-D7C2-4280-AE3C-96014DCB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D0F12-E892-4566-991A-FA4CBE09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0AF84F-04F7-406A-B403-02BE7749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4D3F7-89EE-4A4D-9513-89D33E5F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1270B2-5134-473B-A29A-ED7DC40D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607F8A-AF2D-4F27-8FB9-90EB24D8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B76BB-D577-4B0C-A3D6-A43390F5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6DCC6-DB14-461F-9F4E-CE6D558F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3D2528-0B57-4B21-AC64-EC9E9CA2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A8BF07-6FAD-4B08-9CE8-14B151E9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972189-2092-43D2-B30A-B0FEBF1A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6756-9CBC-4524-8B2B-15A7252A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350B52-8548-4EEC-B038-02EEE800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7C5E8-D1DE-46D2-9E5C-1499E971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A3C424-881B-4002-95DB-1ED2D3E2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9EA7DE-293F-4AF7-953C-EC56B1F8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6E1654-BFB7-4EBD-B777-B908D21A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BEC0B3-1638-4911-B7AB-43835F37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6BEBC7-99E7-4596-8731-8BAFAAF7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C2E679-F7D9-48FD-9063-68F00C10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3BBBCB-7D03-46C4-AA4B-31FE49C4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589D5-E3CB-4124-9033-A387A716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B8EA-4436-4C06-A9AE-D7912E32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54CBA8-22F0-44AA-8BF9-F2E2C6B0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CBB32-F529-4987-8CE8-7D094F7E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E107E3-804E-46A0-ADF0-F06B7D2E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86C0EE-9E4B-40A0-A70A-1D9EE66C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621CBE-1CD7-4461-9B67-8FDF92DF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F9253-6510-48BA-80FC-C368EF86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4E1BC-39EF-4EA7-A9EA-68B87D8F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DD845-2F3C-4C6B-8AB1-132F8562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0FC5C-A114-4F2F-BF01-BD914379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0BDB40-A3F4-4FB3-A7F9-6DBA31CA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21F1-9C09-4255-8536-6D1413B8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66BC70-7933-445C-8DEA-8D214884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64449A-6DB2-4D6D-A1A8-520DD6FF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04999C-30D6-4EBC-911E-3868AD17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C3A674-449C-4BFA-B35D-C78EA4AF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5B71A-779B-41D6-B42A-C649580E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5BFEB-9569-453C-A799-241E061E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A6B50E-925D-4629-B232-A1908078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EDA39E-2D5B-4349-976A-0489015F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BEA721-EB71-4DD7-B7C0-353A2943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234BDF-E088-409A-89E6-703BCCCA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98F9-CE78-4E2D-9F9A-E0C18623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D2386-31C4-4B72-AB8D-E60B037B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3D61C6-F558-48AC-8103-3EFBD9A1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7FCC75-3D71-4B5A-ADEF-7BFBD3B9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6129-B646-4820-A6EA-BFBBADC3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02C6-9401-4C8A-883E-3330D788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297B1-856F-401D-BF87-286FC18D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7B46-4780-4446-AE49-B4138A61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D6D-5273-4A4A-AD04-79C112EF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CBC2-CA43-4E06-A733-3B430DC9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06C3E-438B-4385-812A-794CF750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D50C-EC0F-46F9-A1D1-13B9DD35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F3EB3-3164-460C-88D6-A707F61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1085-34FE-4CDB-B057-637316E6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E3F9-581F-4E4A-A86E-2005ACEA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E283-A73A-4550-A521-BA6F9615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9AE71-9EBF-4B22-8008-03C809F8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5E6EB-E64A-49DB-B75C-88B2496F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A10E7-5087-4667-95F5-8EBF50D2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1F0-2B0B-41FF-9AEA-9E90DCD7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78EE-2D26-4DC2-AB1E-276BA234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4D7E6-79BB-492E-8708-08D0BB19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C19D-E48F-417D-BBD9-025213A6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4B9A1-5EA3-49DE-8B83-11172E25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81589-9285-458A-AE70-4CF997B3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476C-7EB0-48A0-93D0-5F4A81B5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77468-21F3-42F3-86C5-2A4A865C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B0FD-EDFC-45BE-85DD-5072110B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A3E1A-224C-4A65-AA63-93CF80B9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9FD78-541E-429F-ADC3-30349B28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592-93C7-45C6-A4FB-15F2E44C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7081C-380A-41EC-808F-DF726EDC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EA983-C3BC-4178-AD2D-C82014E3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DC547-7A01-4F3C-A94D-3106717A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0B089-FD28-4002-A794-B3EED751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49AD9-7446-41A5-93E5-63F4B082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C68A1-99CC-4BA0-840E-C9ACDB40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840DE-C8A0-4488-9DB2-A273BBD1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A3586-88A7-4031-B198-2FDDCF17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537C1-D8B0-48E7-9547-151F2491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20017-12E2-45B2-9BC7-869265F4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4B3-AFF7-4A98-8DFF-69B1795B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FAAD8-C3E5-437F-8EFC-1555B609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75B86-4D56-4839-B30C-C2ACAE4A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36B23-CF36-4A34-87E5-70700C80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513D4-375E-49EA-87A4-A0B21E45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DEC9B-9822-495F-862D-1FC2AE7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FB06E-05DE-4BA3-B1FA-8B4F5E55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0C30D-DCC9-4524-9E9E-90564BAB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E9404-5B4B-4169-9C61-443F29B0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8682E-421D-4CFD-AF9F-241E131C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0CD13-D055-450F-9503-115ABA53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C4F-FA61-4209-91D7-7424439D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23CBC-CEF6-4344-A4FB-9E90E43A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91CD3-B30B-4114-9786-B9244DBE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A8371-111F-401E-8AAE-DA53E991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F627C-4512-4587-9509-3E65389C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BAA8A-368A-4A55-8414-E4128B09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F8EEB-FC82-4304-9FD8-20E658A7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70D8D-F482-478B-BEB4-F2542861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0198B-23A4-459D-8777-7DDEDE5F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19E78-5DFC-4A8D-AED0-639A47AF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70098-CE3B-4ECE-8643-7FE0E439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479-50A9-441B-92E9-A38684EC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67E1E-144C-403F-815D-DE349BD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64FDE-DF5F-4AA9-B79B-386089F3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8E48B-CC38-4107-A710-6C62BF87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C881E-B92D-424D-A875-3B050B7A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DF53B-F97E-48AC-81A1-365781B8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8B167-4305-4B43-AB59-9DF6644F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7F6F3-C7D4-45A7-B81C-4B88BBC8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39AB2-196F-4440-954A-A91ED9F1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890AD-CC28-4778-A4E6-5AD27551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7A4BF-8435-4E19-8E16-703DF238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A8D-3ECB-4BD8-8423-3E4CE0E8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BCD07-DDA8-4974-AFE2-238E0A91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7CF0B-7B64-41EE-B2F5-6CAA7572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8644A-7AC0-4CE4-99FE-3809CFE2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628B2-4DD8-4C86-ADCB-68D01ABD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8ACE4-DDED-4DFC-8CB6-FDB27870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ED2D3-29D4-495F-8063-ED54DB4C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647CA-0DF1-4834-BC8F-361E66E0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DCB2A-3627-45FE-A5F9-8E03AAAE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568A4-06D9-471F-88D2-A90358AB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59407-7B53-4006-859F-C7D8E6BE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D72D-71C8-4BCD-8EAE-5A7A62003D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DF17-79E1-4300-BB0F-E453D4CFAB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93E4-6A58-4E39-AC14-F0FE0A0C14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D678-00AD-4EB1-9388-F2F5056E77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B527-FD14-45EC-9284-CB4B22C0D4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48B2-7520-4261-AD52-A3C2222067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24F8-A100-4477-BDE4-D3CB3FE05A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C775-26C2-46DA-848E-F58969D973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ABDD-0DFD-48C4-8068-B1BD6DCE3F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5019-32F4-40BC-9AF1-7F47873057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8A76-1AC0-4CCD-9130-065C0A8384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F4A4-0A2D-4280-B82F-4B9CB7C3D4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562A-A774-43C3-827C-263BF1D08C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22EF-7E33-45F6-B704-EE78E89B9D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F426-E670-45CA-A436-2E7C2DFD67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B558-BF52-4F04-8574-D0A56DF4C9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F7AA-4ED0-4058-ABDB-14F09A779D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EF1A-9AE2-441D-9613-E761D76E17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9EA2-D87F-4131-9E51-0CE71C80E3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C6E5-0B4C-40DB-890C-857327EBB0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E6D8-FA03-4485-B79F-1DE07F77DA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479B-7297-43FA-BA98-77AE6853A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F064-BC12-4445-8C85-2FCA297BED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1CD3-3503-4025-BADC-76C89DDA24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10C2-ADA0-4110-8D81-14BEE6B8EF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6EAD-FE25-4FBA-B143-2F3DAB6B2E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499D-E490-4FB7-B00A-429CF124F6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8FB0-3E63-4D0F-967D-0FE239AA10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6A89-3B97-432B-8E22-04D1E7B03C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D6BC-D8F8-409C-A88C-F34A8F40F4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719A-EC51-4AEC-ABC0-79F7F7782D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3D9A-F9B0-4372-8481-6B2E96A2A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4014-916D-45B5-A9CA-E613B736EC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6612-C786-4CEC-867C-D7ECD3BB36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D5C5-92E0-419E-964C-3376B48283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10D6-DBE3-4846-AC37-5AC708FA64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4A68-EA85-425C-A821-DF968B43E4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A1C9-C73D-4291-8012-0047478E16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10AF-0242-487E-8AAD-A6E57D6AE3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3F70-801C-4291-8D80-693DBA0634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733840" y="3071880"/>
            <a:ext cx="3676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666720"/>
            <a:ext cx="8553600" cy="5524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236000" y="1557360"/>
            <a:ext cx="122364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924360" y="227664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140360" y="361620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268360" y="436572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940360" y="436572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627280" y="573408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724360" y="5689440"/>
            <a:ext cx="12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324000" y="839880"/>
            <a:ext cx="8496000" cy="58291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6012000" y="1541520"/>
            <a:ext cx="151272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987640" y="417816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4500720" y="4192560"/>
            <a:ext cx="172692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6588000" y="4178160"/>
            <a:ext cx="1727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1547640" y="504180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4572000" y="5056200"/>
            <a:ext cx="172728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8"/>
          <a:stretch/>
        </p:blipFill>
        <p:spPr>
          <a:xfrm>
            <a:off x="6588000" y="5041800"/>
            <a:ext cx="187344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9"/>
          <a:stretch/>
        </p:blipFill>
        <p:spPr>
          <a:xfrm>
            <a:off x="1547640" y="592128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0"/>
          <a:stretch/>
        </p:blipFill>
        <p:spPr>
          <a:xfrm>
            <a:off x="3059280" y="5921280"/>
            <a:ext cx="122364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1"/>
          <a:stretch/>
        </p:blipFill>
        <p:spPr>
          <a:xfrm>
            <a:off x="6588000" y="5921280"/>
            <a:ext cx="187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8373" descr=""/>
          <p:cNvPicPr/>
          <p:nvPr/>
        </p:nvPicPr>
        <p:blipFill>
          <a:blip r:embed="rId1"/>
          <a:stretch/>
        </p:blipFill>
        <p:spPr>
          <a:xfrm>
            <a:off x="318960" y="936720"/>
            <a:ext cx="8506080" cy="5371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2268360" y="580536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4427640" y="273672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4643280" y="342900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4427640" y="414972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4543560" y="4854600"/>
            <a:ext cx="352872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8379" descr=""/>
          <p:cNvPicPr/>
          <p:nvPr/>
        </p:nvPicPr>
        <p:blipFill>
          <a:blip r:embed="rId7"/>
          <a:stretch/>
        </p:blipFill>
        <p:spPr>
          <a:xfrm>
            <a:off x="971640" y="2492280"/>
            <a:ext cx="3181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7352" descr=""/>
          <p:cNvPicPr/>
          <p:nvPr/>
        </p:nvPicPr>
        <p:blipFill>
          <a:blip r:embed="rId1"/>
          <a:stretch/>
        </p:blipFill>
        <p:spPr>
          <a:xfrm>
            <a:off x="800280" y="990720"/>
            <a:ext cx="7543800" cy="4876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2814480" y="5329080"/>
            <a:ext cx="74952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5003640" y="1773360"/>
            <a:ext cx="3384720" cy="1295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5148360" y="3197160"/>
            <a:ext cx="266364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5148360" y="3860640"/>
            <a:ext cx="266364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57357" descr=""/>
          <p:cNvPicPr/>
          <p:nvPr/>
        </p:nvPicPr>
        <p:blipFill>
          <a:blip r:embed="rId6"/>
          <a:stretch/>
        </p:blipFill>
        <p:spPr>
          <a:xfrm>
            <a:off x="755640" y="981000"/>
            <a:ext cx="41814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6324" descr=""/>
          <p:cNvPicPr/>
          <p:nvPr/>
        </p:nvPicPr>
        <p:blipFill>
          <a:blip r:embed="rId1"/>
          <a:stretch/>
        </p:blipFill>
        <p:spPr>
          <a:xfrm>
            <a:off x="1033560" y="1190520"/>
            <a:ext cx="7076880" cy="44769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2124000" y="2765520"/>
            <a:ext cx="453564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2050920" y="3429000"/>
            <a:ext cx="453564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2124000" y="4149720"/>
            <a:ext cx="453564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2124000" y="4797360"/>
            <a:ext cx="583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5300" descr=""/>
          <p:cNvPicPr/>
          <p:nvPr/>
        </p:nvPicPr>
        <p:blipFill>
          <a:blip r:embed="rId1"/>
          <a:stretch/>
        </p:blipFill>
        <p:spPr>
          <a:xfrm>
            <a:off x="642960" y="2033640"/>
            <a:ext cx="7858080" cy="2790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971640" y="3500280"/>
            <a:ext cx="669600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669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4276" descr=""/>
          <p:cNvPicPr/>
          <p:nvPr/>
        </p:nvPicPr>
        <p:blipFill>
          <a:blip r:embed="rId1"/>
          <a:stretch/>
        </p:blipFill>
        <p:spPr>
          <a:xfrm>
            <a:off x="638280" y="1004760"/>
            <a:ext cx="7867440" cy="4848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1187280" y="308304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1116000" y="443700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1042920" y="5157720"/>
            <a:ext cx="698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2231" descr=""/>
          <p:cNvPicPr/>
          <p:nvPr/>
        </p:nvPicPr>
        <p:blipFill>
          <a:blip r:embed="rId1"/>
          <a:stretch/>
        </p:blipFill>
        <p:spPr>
          <a:xfrm>
            <a:off x="262080" y="115920"/>
            <a:ext cx="7910280" cy="65041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826920" y="2117880"/>
            <a:ext cx="345780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345780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1042920" y="3500280"/>
            <a:ext cx="3457800" cy="792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900000" y="4465800"/>
            <a:ext cx="3457800" cy="7920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684360" y="5487840"/>
            <a:ext cx="3457440" cy="4622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7"/>
          <a:stretch/>
        </p:blipFill>
        <p:spPr>
          <a:xfrm>
            <a:off x="755640" y="6078600"/>
            <a:ext cx="63374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7:2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